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4240"/>
            <a:ext cx="777096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09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133720"/>
            <a:ext cx="22860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million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distance to galaxy Milky-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2920" y="208080"/>
            <a:ext cx="6562800" cy="664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759360" cy="6781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76320" y="2438280"/>
            <a:ext cx="2514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solar system starts to sh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The orbits of the planets have been pai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438280"/>
            <a:ext cx="220968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solar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2320"/>
            <a:ext cx="6858000" cy="683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-52560"/>
            <a:ext cx="6934320" cy="6910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76320" y="2359080"/>
            <a:ext cx="236232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orbits of Hermes, Venus, Earth, Mars and Z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76320" y="2362320"/>
            <a:ext cx="221004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million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orbits of Venus, Earth and M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94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6360" y="7632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514600"/>
            <a:ext cx="228600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ill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 of the orbit of Ear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666880"/>
            <a:ext cx="22096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ill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orbit of Mo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32080" y="76320"/>
            <a:ext cx="673740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76320" y="2590920"/>
            <a:ext cx="243864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Earth still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32080" y="7632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76320" y="2562120"/>
            <a:ext cx="2438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orthern hemisphere of Ear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286000"/>
            <a:ext cx="243828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rida 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76360" y="76320"/>
            <a:ext cx="6691320" cy="6781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22860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m the surface of the s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rida even 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86160"/>
            <a:ext cx="2438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illion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disc becomes v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6553080" cy="659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819520"/>
            <a:ext cx="228600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start to distinct p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6858000" cy="6811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76320" y="2743200"/>
            <a:ext cx="2438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you can see when free falling off a pl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32080" y="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6320" y="2743200"/>
            <a:ext cx="221004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ordinary view from an helico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28440"/>
            <a:ext cx="7162920" cy="6829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666880"/>
            <a:ext cx="19051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eing off a cli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6360" y="7632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438280"/>
            <a:ext cx="22096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you see when you reach out your arm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280" y="2743200"/>
            <a:ext cx="2057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cm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catch the lea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-52560"/>
            <a:ext cx="6934320" cy="691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2666880"/>
            <a:ext cx="1828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cm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structure of a lea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0" y="98280"/>
            <a:ext cx="6858000" cy="6836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2590920"/>
            <a:ext cx="16765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 m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ven 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6320" y="2774880"/>
            <a:ext cx="22860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micron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          you can see the ce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76320" y="2698920"/>
            <a:ext cx="213372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micron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ells look clea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62120"/>
            <a:ext cx="2362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.000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barely see 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6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92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743200"/>
            <a:ext cx="198108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micron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ell itsel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835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2666880"/>
            <a:ext cx="1981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.000 angstro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chromoso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666880"/>
            <a:ext cx="1905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angstro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can see the DNA ch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2562120"/>
            <a:ext cx="1828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nanometre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hromosomes par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92160"/>
            <a:ext cx="6934320" cy="684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2057400"/>
            <a:ext cx="1828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angstrom     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tom of carbon. Life consists of i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6781680" cy="6782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637000"/>
            <a:ext cx="205092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comet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lectron within the a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08280"/>
            <a:ext cx="2408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ic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sk-SK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orbit of electr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895480"/>
            <a:ext cx="24112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rmi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3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inner of an a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8356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743200"/>
            <a:ext cx="2340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rmi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896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2743200"/>
            <a:ext cx="152388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Fermi       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he surfa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a neutr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6280"/>
            <a:ext cx="248436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.000 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start to see the stars of 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64848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84280" y="76320"/>
            <a:ext cx="68360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133720"/>
            <a:ext cx="23400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0 atom met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-16</a:t>
            </a:r>
            <a:r>
              <a:rPr b="0" lang="cs-CZ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) we can see the qua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d of tri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fter this journey ask yourse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Can you say whether you are big or sm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Think for a minut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9080" y="5013360"/>
            <a:ext cx="3701880" cy="434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NATIONAL  NASA 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2280" y="2486160"/>
            <a:ext cx="2286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.000 light years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 The stars ten times clo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94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76320" y="2819520"/>
            <a:ext cx="2271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0 light ye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hing but st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54400" y="76320"/>
            <a:ext cx="671328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08320" y="76320"/>
            <a:ext cx="6759360" cy="678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76320" y="2698920"/>
            <a:ext cx="22719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light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ven more st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52280" y="2851200"/>
            <a:ext cx="256356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light year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a little attention you can see the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7054920" cy="700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76320" y="2638440"/>
            <a:ext cx="266724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tri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(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un even bigg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6934320" cy="688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</cp:lastModifiedBy>
  <dcterms:modified xsi:type="dcterms:W3CDTF">2007-12-28T08:53:56Z</dcterms:modified>
  <cp:revision>10</cp:revision>
  <dc:subject/>
  <dc:title>Διαφάνεια 1</dc:title>
</cp:coreProperties>
</file>